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A85A-26DD-4C0D-8EC1-5E3ABCDB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644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5024-088B-4A27-9ACB-B4CB7AC0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296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8534-9C82-4CFE-8629-4A4C109A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7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65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7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65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4194-EC7E-4FAA-8EBD-B9DAE92F1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6884-3AB4-4B49-9558-BF510743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0A61-6372-41EC-9E04-0544FC84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ADC9-564E-4B59-A7AD-31B73B77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16F1-44F8-4CDA-956A-DA675F0C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55080" cy="57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4B79-3783-42E3-B7A7-95360C9D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87BF-7BC1-4DAD-9B6A-73CBAB1E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296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F072-FE7A-444E-96F0-86CD7FE2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D70C-59A8-4B97-9AEF-968F1F09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320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798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320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8D474-AF88-4D6B-A851-2777885C259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56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The Name of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my ecosyste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 :Ayer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743200" y="2943360"/>
            <a:ext cx="5257800" cy="25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">
              <a:avLst>
                <a:gd name="adj" fmla="val 21528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Tropical Rainforest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2743200"/>
            <a:ext cx="2610000" cy="48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14720" y="1828800"/>
            <a:ext cx="594360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What a Consum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s the climat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s a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o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s 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i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971800" y="0"/>
            <a:ext cx="594360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">
              <a:avLst>
                <a:gd name="adj" fmla="val 21528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8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Some   quiz  Question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8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400800" y="2652840"/>
            <a:ext cx="3638520" cy="46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2844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">
              <a:avLst>
                <a:gd name="adj" fmla="val 21528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8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Websites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80008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69" name=""/>
          <p:cNvSpPr/>
          <p:nvPr/>
        </p:nvSpPr>
        <p:spPr>
          <a:xfrm>
            <a:off x="4807080" y="1306440"/>
            <a:ext cx="309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0" y="3429000"/>
            <a:ext cx="6373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nchantedlearning.com/biome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34920" y="3886200"/>
            <a:ext cx="7578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animal.discovery.com/guides/mammals/habitat/map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800600"/>
            <a:ext cx="1008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therainforestaworldbiome.weebly.com/food-chain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313160"/>
            <a:ext cx="77724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chool.eb.com/element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5513400"/>
            <a:ext cx="9372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kidcyber.com.au/topics/ecosystem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854440"/>
            <a:ext cx="7145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kidcyber.com.au/topics/biome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200" y="2286000"/>
            <a:ext cx="4721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kids.nceas.ucsb.edu/biomes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283440"/>
            <a:ext cx="685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cwiseowl.com/zones/elementary/index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943600" y="28440"/>
            <a:ext cx="4114800" cy="2486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566120" y="5486400"/>
            <a:ext cx="2514600" cy="2057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8600" y="6858000"/>
            <a:ext cx="558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animal.discovery.com/mammals/jaguar-info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830240"/>
            <a:ext cx="10058400" cy="4341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A </a:t>
            </a:r>
            <a:r>
              <a:rPr b="1" lang="en-US" sz="66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Ecosystem</a:t>
            </a:r>
            <a:r>
              <a:rPr b="0" lang="en-US" sz="66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 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 </a:t>
            </a:r>
            <a:r>
              <a:rPr b="0" lang="en-US" sz="66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Living things, and place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-A 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Biome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 is certain types living things, Climate, and the places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320" y="2057400"/>
            <a:ext cx="10058400" cy="4341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950e"/>
                </a:solidFill>
                <a:latin typeface="Arial"/>
              </a:rPr>
              <a:t>The Climate of the Forest is Dry, wet, 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950e"/>
                </a:solidFill>
                <a:latin typeface="Arial"/>
              </a:rPr>
              <a:t>hot. It almost rains every da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14400" y="28440"/>
            <a:ext cx="777240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">
              <a:avLst>
                <a:gd name="adj" fmla="val 21528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Climate of Ecosystem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379520"/>
            <a:ext cx="9852120" cy="5935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800440" y="2844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4574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Food web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33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943600" y="-573120"/>
            <a:ext cx="891540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10080720" cy="7772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82520" y="596880"/>
            <a:ext cx="10001160" cy="64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-Producer: Are like plants for example  trees are plants Which get their energy from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-Consumer: Are like animals and humans that eat the producer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-Primary consumers are like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 prey for the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Secondary consumers .  ( Which Primary consumers eat  produc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-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Secondary consumers are the ones who eat the  Primary consumers.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  <a:ea typeface="Arial Unicode MS"/>
              </a:rPr>
              <a:t>The difference is the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Arial Unicode MS"/>
              </a:rPr>
              <a:t>Secondary consumer e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at the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Primary consumers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, and the primary is that eat produc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rs. (Which makes that the predator is the Secondar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63480" y="2743200"/>
            <a:ext cx="8480520" cy="47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there is going to be a lot starving animals . Because the animals that get eaten by the predators . Will those animals that eat producers  increase .Yes . So it a good thing we hav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a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2743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371600" y="485640"/>
            <a:ext cx="640080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What Happens if we take out the Predators.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343400" y="5073480"/>
            <a:ext cx="5715000" cy="24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800440" y="22860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ome animals rainforest.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2743200"/>
            <a:ext cx="7315200" cy="42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Tapirs life span is about 25 yea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Golden lion Tamarin (Which is a kind of monkey) its life  span is about 15 yea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Rainbow lorikeet (which is a type of bird) its life span is  about  20 years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Tarantulas : (Which is a hairy spider)its life span about 30 yea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086600" y="0"/>
            <a:ext cx="2994120" cy="3200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8140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28600" y="-200160"/>
            <a:ext cx="868680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">
              <a:avLst>
                <a:gd name="adj" fmla="val 21528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Some animals scientific names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1577880"/>
            <a:ext cx="8458200" cy="55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Harpy Eagle: Harpia  Harpy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Jaguar; Panthera  On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Kinkajou: Potos Flav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pybora:  Hydrochacris  hydrochaer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Vine Snake : Oxybelis  fulgid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97160" y="4800600"/>
            <a:ext cx="244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20574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10080720" cy="5502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17:02:33Z</dcterms:created>
  <dc:creator/>
  <dc:description/>
  <dc:language>en-US</dc:language>
  <cp:lastModifiedBy/>
  <cp:revision>0</cp:revision>
  <dc:subject/>
  <dc:title/>
</cp:coreProperties>
</file>